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2A8-67BC-4C74-9F7B-87A608D9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971B-F85F-4B13-840E-4247B7AC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DD1-7BE0-4709-8D93-AA704AB5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2111-A674-42BB-91D1-AA20087D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6A4-F657-47DA-AFCF-B2DA11DA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2432-BA45-402D-A53D-87F45DB9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5BD1-FC28-48B5-AFE3-6E1F3DED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A070-B17E-41BC-98C9-7A545D9A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33E-E0C1-4CBA-B5F7-89CED609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6AB-11E3-45AA-930B-25D69380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412-D3A8-47F8-9C9C-1051848B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9CD-6F43-48DD-AD87-FD9589CA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42BB-8432-48BB-A7CC-A7CAA605A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greece-athens.com/gallery_images/56.jpg"/>
          <p:cNvPicPr/>
          <p:nvPr/>
        </p:nvPicPr>
        <p:blipFill>
          <a:blip r:embed="rId1"/>
          <a:srcRect l="0" t="0" r="0" b="23196"/>
          <a:stretch/>
        </p:blipFill>
        <p:spPr>
          <a:xfrm>
            <a:off x="0" y="2112840"/>
            <a:ext cx="91440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>Acropolis</dc:description>
  <dc:language>en-US</dc:language>
  <cp:lastModifiedBy>BHISD</cp:lastModifiedBy>
  <dcterms:modified xsi:type="dcterms:W3CDTF">2012-03-09T20:23:24Z</dcterms:modified>
  <cp:revision>95</cp:revision>
  <dc:subject/>
  <dc:title>2.Change.NAME.Greece.vocab.tem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2.Change.NAME.Greece.vocab.temp</vt:lpwstr>
  </property>
  <property fmtid="{D5CDD505-2E9C-101B-9397-08002B2CF9AE}" pid="3" name="SlideDescription">
    <vt:lpwstr>Acropolis</vt:lpwstr>
  </property>
</Properties>
</file>